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CD5-BBD7-4DC5-B2A4-E8608921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B7F-ACED-4AF7-B81B-E50A2EA7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EC0-0A7B-4F63-BD4B-F6F26B68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1CC-3C3C-4480-8A74-7483761F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1C31-B423-4196-98DB-8C094063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A430-26A8-42D5-9325-01EA749A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651C-3F32-40DB-96CC-B61D4E78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F76A-0A28-486D-B2B6-BF804C4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9DF8-2533-433C-A8DE-35F8FC7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603C-9B56-43B0-B33C-8A38D9FF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A717-5426-4B99-B867-C34043A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CD5-E119-480E-8432-ECF06A8C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9A10-8BBE-4D6A-A028-4EC6779B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9DF5-996B-47E0-9520-6BB79F6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02D-2478-447A-8999-5933AB53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5797-B073-472E-9EB4-CADC6BE3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0BEF-A50F-4F01-AC4D-3B97D453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90B-7BAF-42E6-A7CD-978D193E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C94-8B8B-4BFA-92CC-627C48EF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BF6-3446-43D1-8B86-B7F6180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2EF-3F5C-4741-A582-006633CA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9A8-5430-4E56-BD85-A2CB034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06C-AE7F-466A-9BE3-EC2D3686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F5C-1A65-403E-9643-5B67D40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91BF-B1A3-408F-9C70-983766B8CDF9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9DBD-E76B-47F3-BB28-30C1401B058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shington Naval Conf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 J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conference called by the administration of President Warren G. Harding, from Nov.1921~ Feb. 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jor treaties emerged out of the Washington Conference: the Five-Power Treaty, the Four-Power Treaty, and the Nine-Power Trea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objective was to inhibit Japanese naval expansion in the waters of the west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68280"/>
            <a:ext cx="7620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shington Naval Treaty led to an effective end to building new battleship fleets and those few ships that were built were limited in size and arm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 of existing capital ships were scrapped. Some ships under construction were turned into aircraft carriers inst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T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Five-Power Treaty controlled tonnage of each navy’s warships, some classes of ships were left unrestricted. As a result, a new race to build cruiser ships emerged after 1922, leading the powers back to the negotiating table in 1927 and 1930 to close the remaining loopholes in the agre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50:02Z</dcterms:created>
  <dc:creator>Sarah  Jang</dc:creator>
  <dc:description/>
  <dc:language>en-US</dc:language>
  <cp:lastModifiedBy>Sarah  Jang</cp:lastModifiedBy>
  <dcterms:modified xsi:type="dcterms:W3CDTF">2008-10-13T03:08:14Z</dcterms:modified>
  <cp:revision>3</cp:revision>
  <dc:subject/>
  <dc:title>Washington Naval Conference</dc:title>
</cp:coreProperties>
</file>